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1E9D-BF16-4CA5-A991-A5F69DBAF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7123-38CA-4931-81AE-9E7D3EE81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D1FF-1FA6-4FE6-A638-A9F1F5665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A87F-17F9-492F-BE7C-DD235DB8D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E770-ACBD-4E92-8C8E-E0FF0C043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51D6-67BB-40A9-BEC8-B6E95024D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226F-755B-43F7-A323-1199B0586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740B-E2C5-44AC-A605-0C57D3041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7A7F-EDC8-4DC8-BA63-65F8675C7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68F3-5F78-463E-A4B1-9349B0501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6292-34BA-4F90-8EDA-5B1BA75EC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6010-C5A0-4195-86BC-65DD8B01D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6C0B-E7CF-4AB6-AD54-90D9736D5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842D-AEF7-4407-8286-62C32F984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9D92-0FD1-42E5-A386-5CDAC03ED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ADB2-8ABF-49B7-9758-B804C3F5C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607C-B6C2-4DB3-B20A-25E2A2C35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: http://www.uncp.edu/academics/colleges-schools-departments/departments/biology/careers-biology/biology-sub-disci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ED17-D516-4D2B-9CDE-A36D92912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52E0-85C9-41B1-97CC-0C01172F9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92F6-521B-4217-98CE-0EDD3CFD2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D513-494E-40AC-8290-BDAD75E2D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36B5-C33C-4EE1-A991-9E26A1734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A868-00FB-4B16-9214-786681F26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0B6C-0226-4A96-9088-49BA777AC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F00-90DF-45AB-9965-D3BFA618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7DE5-2D74-4A8D-B201-A335A8F0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CB1-B298-4D4A-B434-D7DBC40B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170-2994-4E7B-96F7-28B8B9EE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7AE-F55F-4114-B956-387FB66E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D0B-6E22-40C3-A714-A2F2FFA0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B68-A317-4D4D-8BD6-D4AF9D64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5DD-302C-4A2B-A3F1-8862E6DD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A07-E8B7-43AC-872A-4DEC8516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58B-3E35-44A5-BC14-34166889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EF4-B55D-4A3C-8778-00DE7F50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C0C-965B-4A65-9752-09D99197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3A8F-5A7C-4DAB-B8E3-3296AB0FA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quizlet.com/6402624/biology-disciplines-flash-card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uncp.edu/academics/colleges-schools-departments/departments/biology/careers-biology/biology-sub-discipline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 Discipline Balderd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of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of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bo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/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genic 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bo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cer/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genic 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ne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ations on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ne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ations on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 movements &amp;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 movements &amp;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cturn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cturn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im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biological methods to the study and design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mechanical stuff or something</a:t>
            </a: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movement of lig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robotic 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mechanics which function like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-causing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 cells decomposing qui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-causing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 cells decomposing qui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le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like using flashcards for review, this is a great website for creating or finding the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quizlet.com/6402624/biology-disciplines-flash-car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 Discip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more comprehensiv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Biology disciplines from the University of North Carolina Pembr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im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plication of biological methods to the study and design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mechanical stuff or something</a:t>
            </a: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movement of lig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robotic 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mechanics which function like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inner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ching/feeling wild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movement of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inner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ching/feeling wild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movement of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 and gender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ands and hormones of the   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sm, mood, and adrenaline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 and gender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glands and hormones of the   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sm, mood, and adrenaline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thelial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thelial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4:21:30Z</dcterms:created>
  <dc:creator>rubina khan</dc:creator>
  <dc:description/>
  <dc:language>en-US</dc:language>
  <cp:lastModifiedBy>rubina khan</cp:lastModifiedBy>
  <dcterms:modified xsi:type="dcterms:W3CDTF">2016-02-08T18:36:46Z</dcterms:modified>
  <cp:revision>342</cp:revision>
  <dc:subject/>
  <dc:title>Biology Disciplines</dc:title>
</cp:coreProperties>
</file>